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1BC-26E0-4704-B796-7839E687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B97-843B-4F0F-9FDC-EA5C004C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0AB-7280-483A-976F-A4487BA3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A51-1043-41EB-8C57-1FF108F7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0F3-518F-4189-A43A-ABB8F485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977-7A43-4607-B923-67C3ACB9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7C8-F66A-44CC-84A4-19AD8D35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B28-FC68-47E3-8102-88D800C4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161-145D-431B-8AA4-D27CAF1C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21B-3CB2-4D98-9D82-AC57266A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A98-BE03-44F6-95CD-97D8EBD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FF6-3CF9-4499-A3FB-7C4DF001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0FD2-16A3-4FE0-8AEE-42249468E6D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4:40:18Z</dcterms:created>
  <dc:creator>Grupo Editorial</dc:creator>
  <dc:description/>
  <dc:language>en-US</dc:language>
  <cp:lastModifiedBy>TORRES</cp:lastModifiedBy>
  <dcterms:modified xsi:type="dcterms:W3CDTF">2010-12-18T22:27:37Z</dcterms:modified>
  <cp:revision>1</cp:revision>
  <dc:subject/>
  <dc:title>Sin título de diapositiva</dc:title>
</cp:coreProperties>
</file>